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CD13-714C-4F44-877A-5994EBF70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FAD3-95AC-4CB9-8F15-14C81A0C0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ED42-A284-422B-B884-17A9991B1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D41A-5D2D-4992-BEBC-297EC6742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4BC4-C1A9-4C59-B917-F8061D744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8BD6-1D31-4FBC-A4CC-DAFC3016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2459-5DDC-4103-801A-CC452253F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ED57-A9A5-4A83-B79E-4DAA75FCE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BA60-1B96-40E0-927C-0CF637B82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E68F-3156-4F7B-86FD-B8E36AE4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120B-F776-4031-A02D-DEB25D0E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0623-C634-4267-A7DE-CB653B75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8BE1D-EF2C-4C45-9E97-FA2E2F54A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231840" y="-687240"/>
            <a:ext cx="7323120" cy="1051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4680" y="-428760"/>
            <a:ext cx="6867360" cy="10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4680" y="-428760"/>
            <a:ext cx="6867360" cy="10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4680" y="-428760"/>
            <a:ext cx="6867360" cy="10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4680" y="-428760"/>
            <a:ext cx="6867360" cy="10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4680" y="-428760"/>
            <a:ext cx="6867360" cy="10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4680" y="-428760"/>
            <a:ext cx="6867360" cy="10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4680" y="-428760"/>
            <a:ext cx="6867360" cy="10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4680" y="-428760"/>
            <a:ext cx="6867360" cy="10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4680" y="-428760"/>
            <a:ext cx="6867360" cy="10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4680" y="-428760"/>
            <a:ext cx="6867360" cy="10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-9360" y="-857160"/>
            <a:ext cx="6867360" cy="1000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-4680" y="-428760"/>
            <a:ext cx="6867360" cy="10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67360" cy="1000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4680" y="-428760"/>
            <a:ext cx="6867360" cy="10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-4680" y="-428760"/>
            <a:ext cx="6867360" cy="10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274680" y="-704880"/>
            <a:ext cx="7408800" cy="1055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4680" y="-428760"/>
            <a:ext cx="6867360" cy="10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-4680" y="-428760"/>
            <a:ext cx="6867360" cy="10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4680" y="-428760"/>
            <a:ext cx="6867360" cy="10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9360" y="0"/>
            <a:ext cx="6867360" cy="1000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4680" y="-428760"/>
            <a:ext cx="6867360" cy="10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4680" y="-428760"/>
            <a:ext cx="6867360" cy="10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4680" y="-428760"/>
            <a:ext cx="6867360" cy="10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4680" y="-428760"/>
            <a:ext cx="6867360" cy="10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274680" y="-704880"/>
            <a:ext cx="7408800" cy="1055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4680" y="-428760"/>
            <a:ext cx="6867360" cy="10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6T14:35:43Z</dcterms:created>
  <dc:creator>jaime saavedra</dc:creator>
  <dc:description/>
  <dc:language>en-US</dc:language>
  <cp:lastModifiedBy>jsd</cp:lastModifiedBy>
  <cp:lastPrinted>2001-12-06T15:51:03Z</cp:lastPrinted>
  <dcterms:modified xsi:type="dcterms:W3CDTF">2002-05-11T02:24:35Z</dcterms:modified>
  <cp:revision>8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TDT HARDWARE MANUAL</vt:lpwstr>
  </property>
  <property fmtid="{D5CDD505-2E9C-101B-9397-08002B2CF9AE}" pid="9" name="LinkColor">
    <vt:r8>16711782</vt:r8>
  </property>
  <property fmtid="{D5CDD505-2E9C-101B-9397-08002B2CF9AE}" pid="10" name="MailAddress">
    <vt:lpwstr>jsaavedra@entel.cl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D:\manuales TDT USM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