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80C-7E70-4FF6-A72D-7D29163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D39-7287-4700-B976-A4AB64D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90D-2A8E-4E0B-A53A-C6EF71B1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10F-E44D-4E83-BF70-D010BF2F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FC8-4A4C-4EEF-87B2-6F85841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B95-8077-4D52-B09A-82B201EE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052-C99D-4C71-A3EA-3538A9F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03B-B23D-4FB6-A6E2-CB09F719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B29-751A-4E78-B40A-1901A85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573-45B9-4823-BA7A-73C6187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BB9-1DC0-4842-8485-1881FF6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D9F-26AD-4BD5-BB4D-E3E151B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F1EC-170F-4181-91FB-62C6D9E9F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1840" y="-687240"/>
            <a:ext cx="7323120" cy="105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9360" y="-85716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4:35:43Z</dcterms:created>
  <dc:creator>jaime saavedra</dc:creator>
  <dc:description/>
  <dc:language>en-US</dc:language>
  <cp:lastModifiedBy>jsd</cp:lastModifiedBy>
  <cp:lastPrinted>2001-12-06T15:51:03Z</cp:lastPrinted>
  <dcterms:modified xsi:type="dcterms:W3CDTF">2002-05-11T02:24:35Z</dcterms:modified>
  <cp:revision>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TDT HARDWARE MANUAL</vt:lpwstr>
  </property>
  <property fmtid="{D5CDD505-2E9C-101B-9397-08002B2CF9AE}" pid="9" name="LinkColor">
    <vt:r8>16711782</vt:r8>
  </property>
  <property fmtid="{D5CDD505-2E9C-101B-9397-08002B2CF9AE}" pid="10" name="MailAddress">
    <vt:lpwstr>jsaavedra@entel.c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manuales TDT US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