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30D-CA83-4E28-BFC4-D64A2686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D34-63CC-483C-859D-72A8AA7B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FE6-3A7C-4BFA-8570-B7E71528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AC0-00D8-4ABD-AC7D-4B662879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3F6-FFCD-48D0-9756-459D332D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BB8-FEFA-4563-8A00-4DABE0C2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22C-EE12-424C-9B25-6CE97733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356-A31C-4BC4-87B0-0E9294A5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50A-603C-46E8-875F-B3FE1B89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85E-4D8F-4043-B7CC-F397300D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27A-61E8-4EBD-BEE4-CCB84BBF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B15-D084-4A77-AB61-F8224E31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068F-F79A-44A1-AEF3-C7AC25D9A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31840" y="-687240"/>
            <a:ext cx="7323120" cy="105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9360" y="-85716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74680" y="-704880"/>
            <a:ext cx="7408800" cy="105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67360" cy="100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74680" y="-704880"/>
            <a:ext cx="7408800" cy="105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680" y="-428760"/>
            <a:ext cx="6867360" cy="10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4:35:43Z</dcterms:created>
  <dc:creator>jaime saavedra</dc:creator>
  <dc:description/>
  <dc:language>en-US</dc:language>
  <cp:lastModifiedBy>jsd</cp:lastModifiedBy>
  <cp:lastPrinted>2001-12-06T15:51:03Z</cp:lastPrinted>
  <dcterms:modified xsi:type="dcterms:W3CDTF">2002-05-11T02:24:35Z</dcterms:modified>
  <cp:revision>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TDT HARDWARE MANUAL</vt:lpwstr>
  </property>
  <property fmtid="{D5CDD505-2E9C-101B-9397-08002B2CF9AE}" pid="9" name="LinkColor">
    <vt:r8>16711782</vt:r8>
  </property>
  <property fmtid="{D5CDD505-2E9C-101B-9397-08002B2CF9AE}" pid="10" name="MailAddress">
    <vt:lpwstr>jsaavedra@entel.c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manuales TDT USM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